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B60-500D-4029-98D8-0E34B3CB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0FD-126B-4EDC-95D4-9581670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9A14-F54F-4298-8E68-02A839E0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3D5-F05E-407D-9BB2-3D1A840F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56CA-0538-4D84-AE5E-1DC4A493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DC0C-F1A4-4FFA-A6E1-640522FD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B86D-74BB-4304-A9A2-5EAB6D46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A89-A1D3-467A-9FD6-F4191E34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FCC7-FADB-4FA8-92BC-6FC09B30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F205-BC72-43E7-92A1-79C08E66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28F-0D65-4DF4-AEAC-17114EF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198-2BD2-4E24-9C28-55CEFCFA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72C3-633F-4555-835B-3684E62F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3A58-7362-44B4-A77A-03AC8FF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383A-E24B-471C-9657-139295C1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B19A-C858-41AB-B19A-CEDDF7C0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5536-5966-408A-B6E3-9D5C6867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44F-9901-4A9D-A65E-4813541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312-0857-4C6C-B5A9-353AA3C6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4EF-3F2F-4398-9206-821852C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CAD-F03C-457E-9C85-39B79802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EED-2AA9-4AB7-BDFD-54A3E5F5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274-D036-4409-8EF9-7B4811C5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597-B62A-4A13-9B74-EE3A2B8D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CC8-E035-4A1C-9CB6-85BDEB406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D171-8187-4D69-95BC-5A89360E3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webhp?hl=en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mikrotik.com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uteo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xiones de red redundantes por falla y balanceo de cargas de flujo de trafico usando OSPF y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042920" y="1347840"/>
            <a:ext cx="691200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 del Router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debe ser unico dentro del sistema autonomo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puede ser dejado como 0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mas grande asignada a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rá us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 default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e la ruta ‘Distribute default’ de manera ‘never’, a menos que sea esto un AS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distribute-default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istribución de ruta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‘redistribute connected routes [y static routes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static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u usas RIP o BGP, quizás quieres redistribuir rutas aprendidas por esos protoc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umeración d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Áreas son definidas con números de 32 bits en formato de dirección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 esta reservado por el área de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áreas deben estar conectadas al área  0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ame=internal1 area-id=0.0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redes para especificar interfaces donde tu necesitas corriendo OSPF y e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de reddeberan incluir la direccion de la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etwork=10.1.0.0/24 area=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! Para direcciones punto a punto, la red debe tener dirección remota del enlace con mascara de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2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se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s necesario, active costo de Interf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interface=eth4-rout8 cost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97708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ce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cambie nada en configuración avanzada, a menos que realmente sepa usted QUE ESTA HACIEND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6265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ocolos de ruteo diná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de MikroTik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n Shortest Path First (OSPF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ing Information Protocol (RI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rder Gateway Protocol (BG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NO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ior Gateway Routing Protocol (IGR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hanced Interior Gateway Routing Protocol (Enhanced IGR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cino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los vecinos OSPF incluyendo este mismo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408720" cy="40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o de vec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vecinos (Neighbor state) muestra el estatus de la red OSP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ll: bases de datos de “estado de enlaces” estan completamente sincron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Way: Comunicacion bidireccional establec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wn, Attempt, Init, Loading, ExStart, Exchange: mmm, no esta funcionando adecuadamente, lea la documentació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: Ruta invalida conectada añadida por OSPF muestra que OSPF esta corriendo en dicha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as multiples del mismo costo tienen una direccion destino y gateways separados por ‘,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ual de MikroTik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on e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Go to Google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789360"/>
            <a:ext cx="2663640" cy="976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34136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ystem reset a sus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direcciones a su rute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blica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ir rutas estáticas y cone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ra OSPF sobre la interfase Pu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hecando statu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OSPF ves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están en ‘full’ state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ste la ruta de default?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as rutas OSPF han sido instaladas?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ru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g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s de OSPF muestran información que cambia entre los rutead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úrelo OFF después de que ospf esta configurado y corr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system logging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OSPF-Info local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al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890800" cy="1590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19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5" idx="3"/>
            <a:endCxn id="287" idx="5"/>
          </p:cNvCxnSpPr>
          <p:nvPr/>
        </p:nvCxnSpPr>
        <p:spPr>
          <a:xfrm flipH="1">
            <a:off x="4860360" y="2349000"/>
            <a:ext cx="1448280" cy="17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4" idx="3"/>
            <a:endCxn id="287" idx="1"/>
          </p:cNvCxnSpPr>
          <p:nvPr/>
        </p:nvCxnSpPr>
        <p:spPr>
          <a:xfrm>
            <a:off x="4076280" y="2349000"/>
            <a:ext cx="10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5" idx="2"/>
            <a:endCxn id="284" idx="4"/>
          </p:cNvCxnSpPr>
          <p:nvPr/>
        </p:nvCxnSpPr>
        <p:spPr>
          <a:xfrm flipH="1">
            <a:off x="4733280" y="2160360"/>
            <a:ext cx="91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287676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155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860640"/>
            <a:ext cx="1441440" cy="5050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1 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her1 10.0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378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2 10.0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84720" y="2492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49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r que usar ruteo dinám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teo dinámico puede ser usado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automática de información de ruteo, al contrario de lo que se tiene usando ruteo está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r conexiones de red redund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o de carga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el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el ruteador para distribuir la ruta de default y redistribuir las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te-default=always-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las 2 interfaces loc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16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Ruteadores B y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os ruteadores para redistribuir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todas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8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itoreando el respal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itoree el enlace 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ando las ips externas del rutead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re el enlace A-B desconectando el cable eth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tos segundos se requieren para que la ruta cambie a través del ruteador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o hacer que el enlace sobre el ruteador C sea el prim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ernativas para respaldo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Netwatch para ejecutar scripts que hagan cambios de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bridge usando túneles de EoIP o W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gerencia: Cuando configure el Brid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el Spanning Tree Protocol (STP) para prevenir loop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argumento de costo de puerto para activar elcamino ‘preferido’ a ser u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stazo a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order Gateway Protocol (BGP) es un protocolo de ruteo inter-autono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uso primario de BGP’s es para intercambiar informacion de ‘reachibilidad’ con otros sistemas BG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implementa BGP Version 4 (RFC 17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3860640"/>
            <a:ext cx="5400720" cy="1944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70172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70028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5" idx="3"/>
            <a:endCxn id="312" idx="0"/>
          </p:cNvCxnSpPr>
          <p:nvPr/>
        </p:nvCxnSpPr>
        <p:spPr>
          <a:xfrm>
            <a:off x="2555640" y="2997000"/>
            <a:ext cx="6483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7" idx="3"/>
            <a:endCxn id="313" idx="0"/>
          </p:cNvCxnSpPr>
          <p:nvPr/>
        </p:nvCxnSpPr>
        <p:spPr>
          <a:xfrm flipH="1">
            <a:off x="5866920" y="2997000"/>
            <a:ext cx="4341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l numero de AS de tu ruteador BGP y habilite BG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 as=65000 enabled=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s especificar aqui cuantas rutas de este ruteador deberán ser redistrib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a red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especificar redes las cuales deberan ser advertised disregarding actual rout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/0 significa advertising la ruta de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500720" cy="42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que el Peer de BGP con el cual usted quiere intercambiar la información de rut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er1 for ASBR1, Peer2 for ASBR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GP intercambiara información de ruteo solamente si puede establecer una conexión de TCP a su p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TCP 179 debe estar abierto en el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añadir tantos peers como sea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ers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88000" cy="500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nde usar ruteo dinam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P y/o OSPF usado dentro de sistemas autónomos (AS) típicamente dentro de tu propia red donde tienes control total de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GP usado entre sistemas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gumentos específicos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hop ‘yes’, si el peer no esta dentro de la misma red ejemplo, si ruteo estático o dinámico es usado para conectarse a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 Reflect ‘yes’, si el peer pertenece a tu AS y quieres redistribuir rutas aprendidas por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List In y Out para controlar la redistribucion de ru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tus del Peer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 de status de p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mero de rutas recibidas es 2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l peer es “connected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724360" cy="43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sta Prefijo (pref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stas Prefijo son usadas por RIP y BGP para controlar anuncios de control de rutas hacia otros ruteadores y filtrar rutas recibidas des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L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fijo tiene un nombre y una acción de default para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es usada para ru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 no cumplen ninguna regla de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8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las de las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es prefijo de red a concor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ngitud del Prefix Length es la longitud del prefix e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de cambiar las reglas de lista de prefix, conexión al peer relevante deberá ser re-iniciada para que se puedan usar las nuevas reglas, por ejemplo, remover y añadir el p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773360"/>
          <a:ext cx="8229600" cy="310824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jo (Prefi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De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 de destinos concord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 (default dest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des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0.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4.0/17;10.5.0.0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.0.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.0.0/16;10.7.0.0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lista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uta default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rutas 10. Son rechazadas, si la mascara de red es mayor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rutas 10.4-7 son aceptadas si la mascara no es mas larga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5435640" cy="431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d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sar BGP y cuando OSP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un ruteador pertenecer a 2 diferentes areas de OSPF con ID’s de area 0.0.0.5 y 0.0.0.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parar re recibir rutas de red 10. Desde el peer BGP, la lista de prefix de la regla IN deberá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ix_____________, longitud de prefix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n Shortest Path First (OSPF) es un protocolo de “estado-del-enlace” que toma cuidado de las rutas en una estructura de red dinámica que puede emplear diferentes caminos hacia sus subre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SPF es mas eficiente y escalable que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, RIP y OSPF son usados dentro de sistemas autonomos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ando usar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redistribuir rutas e inyectar la ruta de default dentro del ár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hacer links de respaldo, si tu controlas los ruteadores a ambos lados del/los en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1341360"/>
            <a:ext cx="8569440" cy="489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eas y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038480" cy="2463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58272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3585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40360" y="2349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47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4653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3357720"/>
            <a:ext cx="1584360" cy="576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413000"/>
            <a:ext cx="1584360" cy="5760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342900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nos (dentro de u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l backbone (dentro del area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área de frontera (Area border routers) (A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ABR se posiciona entre 2 o mas áre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ocar el á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nomous system boundary routers (AS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stribuyen información de ruteo entre OSPF y otros protocolos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PF en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implementa OSPF Version 2 (RFC 232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routing debe se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con “/system package pr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e el paquete de la misma versión d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‘routing-2.x.x.npk’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i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SPF usa protocolo 89 para comunicarse con sus vecinos, asegúrese que la cadena input del firewall no lo filt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 Araux</cp:lastModifiedBy>
  <dcterms:modified xsi:type="dcterms:W3CDTF">2005-06-18T01:19:23Z</dcterms:modified>
  <cp:revision>60</cp:revision>
  <dc:subject/>
  <dc:title>OSPF Configuration</dc:title>
</cp:coreProperties>
</file>